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B35-7BE7-4460-AB7D-D5389764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22EB-2AED-44B3-9D75-7925EA3F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492-420A-4309-A1B5-784F3CF9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E39-12EF-4B78-B4E4-853B8AB4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305-9442-4999-92E9-5B3BF431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3729-43CC-43A9-B326-61A0B4FB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0D28-53E9-448B-9E80-78ACEDB4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932F-08A3-4C17-BEF2-CF7F4A42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00B-B3C3-4A66-B19E-1F530FAB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744-6FF4-40FB-89FC-3A8E7840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8532-00B7-43DC-9E66-D8220AA7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78A9-528D-48CE-9693-D2819F33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C9A1-72E2-4C26-B5D2-4D0F9511E27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d7d7ff"/>
                </a:solidFill>
                <a:latin typeface="Times New Roman"/>
                <a:cs typeface="ALAWI-3-4"/>
              </a:rPr>
              <a:t>النصيحة بجم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3645000"/>
            <a:ext cx="417672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cc"/>
                </a:solidFill>
                <a:latin typeface="Times New Roman"/>
                <a:cs typeface="FS_Free"/>
              </a:rPr>
              <a:t>الجزء الأ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201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لابد من شيء من المخاطرة المحسوبة، من أجل النجا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000" spc="-1" strike="noStrike">
                <a:solidFill>
                  <a:srgbClr val="666699"/>
                </a:solidFill>
                <a:latin typeface="Times New Roman"/>
                <a:cs typeface="Andalus"/>
              </a:rPr>
              <a:t>النصيحة بجم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جزء الث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ff"/>
            </a:gs>
            <a:gs pos="100000">
              <a:srgbClr val="6e7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648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استرخِ، حتى في أحلك الظرو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537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d9a1"/>
                </a:solidFill>
                <a:latin typeface="Times New Roman"/>
                <a:cs typeface="FS_Free"/>
              </a:rPr>
              <a:t>احرص على العمل بروح الفري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257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129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نكتة عابرة تشيع البهجة لدى الجمي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832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481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FS_Free"/>
              </a:rPr>
              <a:t>عبر عن نفسك بطرائق مبتكر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00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68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كن يقظًا </a:t>
            </a:r>
            <a:r>
              <a:rPr b="1" lang="ar-SA" sz="3200" spc="-1" strike="noStrike">
                <a:solidFill>
                  <a:srgbClr val="336699"/>
                </a:solidFill>
                <a:latin typeface="Times New Roman"/>
                <a:cs typeface="FS_Free"/>
              </a:rPr>
              <a:t>دائمًا</a:t>
            </a:r>
            <a:r>
              <a:rPr b="1" lang="ar-SA" sz="2800" spc="-1" strike="noStrike">
                <a:solidFill>
                  <a:srgbClr val="336699"/>
                </a:solidFill>
                <a:latin typeface="Times New Roman"/>
                <a:ea typeface="FS_Free"/>
              </a:rPr>
              <a:t> لمواجهة المفاجآ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112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5832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9900"/>
                </a:solidFill>
                <a:latin typeface="Times New Roman"/>
                <a:cs typeface="FS_Free"/>
              </a:rPr>
              <a:t>أشْرِك الآخرين في المغنم أيضً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473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2f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الأمور الطيبة تحدث للطيب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519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ليكن لك من اسمك نصي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240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e89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FS_Free"/>
              </a:rPr>
              <a:t>                             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الصديق وقت الضي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3611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تمسك بأصدقائك الأوفياء، فهم قليلون هذه الأيا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329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0066"/>
                </a:solidFill>
                <a:latin typeface="Times New Roman"/>
                <a:cs typeface="ALAWI-3-4"/>
              </a:rPr>
              <a:t>تشكرات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ee9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ثِق في قدرات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201680"/>
            <a:ext cx="60483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8500"/>
            </a:gs>
            <a:gs pos="100000">
              <a:srgbClr val="6666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43280" y="549360"/>
            <a:ext cx="41040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imes New Roman"/>
                <a:cs typeface="FS_Free"/>
              </a:rPr>
              <a:t>كن شجاعً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393920"/>
            <a:ext cx="56894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e9f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640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تكيف مع الظروف مهما كانت صعب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3320" y="198108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50920" y="475920"/>
            <a:ext cx="460836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ffaff"/>
                </a:solidFill>
                <a:latin typeface="Times New Roman"/>
                <a:cs typeface="FS_Free"/>
              </a:rPr>
              <a:t>نوِّع في علاقات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54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32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حافظ على هدوئك، حتى في أصعب المواق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83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ffff"/>
                </a:solidFill>
                <a:latin typeface="Times New Roman"/>
                <a:cs typeface="FS_Free"/>
              </a:rPr>
              <a:t>لابأس بشيء من الدعابة، ففي الحياة مايكفي من المنغص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90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9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أحب أصدقاءك كما هم، لاكما تريد أن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</cp:lastModifiedBy>
  <dcterms:modified xsi:type="dcterms:W3CDTF">2006-05-13T08:30:55Z</dcterms:modified>
  <cp:revision>9</cp:revision>
  <dc:subject/>
  <dc:title>PowerPoint Presentation</dc:title>
</cp:coreProperties>
</file>